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BE1D-0C40-4ADD-A46F-B856B79E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3873-CDD7-44D6-84C4-0D6CA414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6207-6CD3-4306-9147-985E4B12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64929-9C79-427C-89D7-9476A70D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7889-5054-41A9-ABC2-30ED17A5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A271-7444-4F82-96E2-098CEBCE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BD3D-4C51-4431-AA1E-67A55286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4E07-4ACD-483C-B59B-B33889AE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1357-6974-4A79-A876-0722C2B3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B39B-1CB8-439C-835B-2A9F80E1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2E64-38D8-4FB0-80AA-6F3B3142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0130E-A8BC-4979-96C6-FEC17699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676C-47F2-43C3-8B14-E2CA0C9B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09BE-BF3E-4E31-B6B2-1477F414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903D-D8F9-49EE-90D6-47150E66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9D8A-9D17-4FD9-9B59-75273842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2D17-890E-49FB-9740-F4B2EC12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5898A-E704-490F-9720-09A15A17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C724-1019-46E1-8129-70F3AD4D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88B2-54D9-43C6-8688-094EC3AC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F61C-8FF1-4296-9460-42CEE628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8F862-29D8-4FBE-BD94-2A4DE967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8B2E-A960-4629-80F6-801E6BC2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75DCA-8A2D-4243-9F9C-43AB991B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dd6a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A92B-C82B-4391-8F43-6FB6CE9B3F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dd6a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CE01-D9FC-4633-8A59-83E11E5E31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donova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dd6a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238880" y="484020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J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April 27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perio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02800">
            <a:off x="469080" y="4495680"/>
            <a:ext cx="586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514"/>
                </a:solidFill>
                <a:uFillTx/>
                <a:latin typeface="Arial"/>
              </a:rPr>
              <a:t>Morbid Fantasy</a:t>
            </a: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 , May 7</a:t>
            </a:r>
            <a:r>
              <a:rPr b="0" lang="en-US" sz="1800" spc="-1" strike="noStrike" baseline="30000">
                <a:solidFill>
                  <a:srgbClr val="000514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freeplaymusic.com</a:t>
            </a: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33520" y="533520"/>
            <a:ext cx="74674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ISPOSABLE DIAP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dd6a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Marion"/>
          <p:cNvPicPr/>
          <p:nvPr/>
        </p:nvPicPr>
        <p:blipFill>
          <a:blip r:embed="rId1"/>
          <a:stretch/>
        </p:blipFill>
        <p:spPr>
          <a:xfrm>
            <a:off x="990720" y="457200"/>
            <a:ext cx="2925720" cy="4095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47920" y="5410080"/>
            <a:ext cx="6933960" cy="12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Kristen ITC"/>
              </a:rPr>
              <a:t>Lemelsons MIT Program, </a:t>
            </a:r>
            <a:r>
              <a:rPr b="0" lang="en-US" sz="1800" spc="-1" strike="noStrike" u="sng">
                <a:solidFill>
                  <a:srgbClr val="000514"/>
                </a:solidFill>
                <a:uFillTx/>
                <a:latin typeface="Kristen ITC"/>
              </a:rPr>
              <a:t>Marion Donovan</a:t>
            </a:r>
            <a:r>
              <a:rPr b="0" lang="en-US" sz="1800" spc="-1" strike="noStrike">
                <a:solidFill>
                  <a:srgbClr val="000514"/>
                </a:solidFill>
                <a:latin typeface="Kristen ITC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Kristen ITC"/>
              </a:rPr>
              <a:t>May 10, 2010, 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Kristen ITC"/>
                <a:hlinkClick r:id="rId2"/>
              </a:rPr>
              <a:t>http://web.mit.edu/invent/iow/donovan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Kristen IT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16765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Kristen ITC"/>
              </a:rPr>
              <a:t>This is Marion Donovan and She invented the Disposable Diap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dd6a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ention: Disposable Diaper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Marion was mocked because she helped revolutionize the infant care industry by making a prototype of the disposable diape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At first her diaper did not work because it leaked through right when you would change i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Marion then designed a waterproof diaper cover so the diaper wouldn’t leak anymore and it work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Soon after that, the diaper became an instant success in 1951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Donovan called her diaper the "Boater," because it helped babies "stay afloat."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She also invented a 30-garment compact hanger, a dish soap that drained the sink, and the “Zippity-Do” which was an elastic cord that was connected to the shoulder to the zipper on the back of the dres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Marion tried to make the disposable paper diaper but she designed a composition of sturdy, absorbent paper that did the job well don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Surprisingly, she did not have instant success with this ide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dd6a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entor: Marion Donova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rion Donovan was born in Fort Wayne,  Indiana in 1917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Her mother died when she was seven, so Marion spent most of her free time in their factory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o then she went to Rosemont College in the suburbs of Philadelphia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rion took a job as an assistant Beauty editor at </a:t>
            </a:r>
            <a:r>
              <a:rPr b="0" i="1" lang="en-US" sz="2400" spc="-1" strike="noStrike">
                <a:solidFill>
                  <a:srgbClr val="000514"/>
                </a:solidFill>
                <a:latin typeface="Garamond"/>
              </a:rPr>
              <a:t>Vogue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514"/>
                </a:solidFill>
                <a:latin typeface="Garamond"/>
              </a:rPr>
              <a:t>Magazine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in New Y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he soon later married James Donovan, a leather importer, and started a famil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rion and her new family moved to Westport, Connecticu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adly in 2009 Marion Donovan passed away</a:t>
            </a:r>
            <a:r>
              <a:rPr b="0" lang="en-US" sz="2400" spc="-1" strike="noStrike">
                <a:solidFill>
                  <a:srgbClr val="ff0066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19:40Z</dcterms:created>
  <dc:creator>install</dc:creator>
  <dc:description/>
  <dc:language>en-US</dc:language>
  <cp:lastModifiedBy>install</cp:lastModifiedBy>
  <dcterms:modified xsi:type="dcterms:W3CDTF">2010-05-12T13:12:43Z</dcterms:modified>
  <cp:revision>10</cp:revision>
  <dc:subject/>
  <dc:title>Slide 1</dc:title>
</cp:coreProperties>
</file>